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94A5E-BB69-4760-9389-D02E52EA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E87BC-B406-4E65-A0A8-57554C5F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DECE6-931B-4DF9-94B7-0ABC4F69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66588-FD65-401D-9E23-D5829DEF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67E1-22EB-4491-B08D-2FB16437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1D42-4775-4FA2-9149-8E188211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491A-7415-4586-AB19-60A3EF67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8CB9-812F-4217-8A7B-6B09EC4F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3085-B82A-408A-B1BE-A98B8D14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22B1-0A43-4B10-BD03-2FA7C71F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FD24-7705-4C23-928C-AFAD344D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9258B-B71B-4C46-9EBF-F963C492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29AE-39B1-4DFD-9C81-A11C64FE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8D9F-06C6-4B5F-9121-F9928A12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0A8A-E31F-43D7-84A2-288A9201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595D-04B8-41AD-95B0-1C30A851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091A-793F-4B0D-9AD0-13CE02ED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DA9DB-A7EB-41BB-8EEC-37CDD213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6C25A-508B-4758-9035-D36D386A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7FCE0-804C-4194-8561-9D4B1067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B4423-E09E-45C8-A372-C05C310C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67AFD-A1BA-4AF6-A4BB-5F1FA3C3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CB3C2-2C98-43CB-8A06-F6E34968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77C19-8819-4D36-830A-CADFCF4E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5F79-39ED-408F-B233-BC2C6856400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03D6-DB96-4E71-B743-F22B2CDBDC6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14480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60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На вашата вяра, блажени светни, основа най-твърда в тез думи лежи, за вас Той говори тез чудни слова, [:що повече може каза от това?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14012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„Не бой се, при теб съм и Щит съм Аз твой, ще дойда със тебе, ще дам упокой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помощ небесна ще волно даря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със мощна десница Аз теб ще подпра.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44468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Когато пребродваш дълбоки води, не ще те свирепа вълна потопи, защото Аз крепко държа те в ръка [:и те благославям, ей, даже в тъга!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44468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4. И даже до старост щат вернит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и наслада намери у Мене сами! Макар да сребрей над чело им венец, [:агънца са Мои - Аз техен Отец!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144468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5. Душата, която надей се на Мен, живот ще добие пресвят и блажен! Аз ней Покровител, Защитник ще Съм, [:на силите адски не ще я предам!":]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1T15:24:23Z</dcterms:modified>
  <cp:revision>134</cp:revision>
  <dc:subject/>
  <dc:title>Slide 1</dc:title>
</cp:coreProperties>
</file>